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2BA5-0988-4438-A21D-00EF0EE9E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nthusiastic reception which this original romance experienced from the Spanish public, produced very little change in the author's fortune; for the folly which felt itself disturbed in its security, united with envy in seeking to trace in the work allusions of an offensive kind. Cervantes accordingly continued poor, and had now to contend with exasperated enemies. Those enemies imagined they had completely defeated him, when an unknown writer of their own party, under the name of Avellaneda, published a continuation of Don Quixote, full of invective against the original author. Precisely at the period when this continuation appeared, Cervantes published the sequel of his instructive novels, which he dedicated to the count of Lemos. In that nobleman he found a protector who never withdrew his favour, and who, as it appears, afforded him support in various ways. Pecuniary necessity seems, however, to have urged him, as a last resource, to write for the sta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192FE-8119-49D0-A533-B32515D30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41EBF-BA02-41F4-8798-1A02DBEC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3F2CA-E73E-4386-8BF9-3563AA32D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EA918-326E-489A-A35F-02E34A872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E41FC-463B-4A52-9F5B-9617695CC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52438-D9EC-4398-A19D-E1877DFEB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CA87F-CEB6-46A8-98F7-E48617A9D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CA505-6752-4721-A9DB-3B628A981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2A2E8-9A55-41CE-9D13-00B1BE365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9E573-FD60-462E-A851-34C182323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2B394-E9B7-42EF-A4FA-D34983290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73A96-95BB-4C57-9ECA-23D8E98C3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7694B-768B-4E4D-AABF-296E2C0D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45816-8F1E-4124-9B13-B44350BB2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C89C9-28B8-4B06-9A0A-97A0130AD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5838C-E4C4-4C56-ACB7-E74CA3D75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63346-CE27-439E-8488-6807537DC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7D11C-5636-4FBD-8C5D-B9EBEBE7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1999C-BE1B-4BB2-8EDD-2AE508800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5634-61C1-4A5F-85D3-EF19AD20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2EEE-BF1B-4B95-883E-063A48B9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4C351-A63B-446A-988C-D45122FF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E5CA-A9F0-404C-94B2-95FE5D096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BA4E-63E5-42AE-94A9-5D59913C7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D7A6-5709-46CB-BFA7-7EB400FD87B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76A2-081F-4617-AA38-82D502A80118}"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onquixote.com/retrato.html" TargetMode="External"/><Relationship Id="rId2" Type="http://schemas.openxmlformats.org/officeDocument/2006/relationships/hyperlink" Target="http://quixote.mse.jhu.edu/index-es.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457200"/>
            <a:ext cx="7772400" cy="1085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Miguel de Cervantes Saavedr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219320" y="56386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onero de la literatura Espa</a:t>
            </a:r>
            <a:r>
              <a:rPr b="0" lang="en-US" sz="3200" spc="-1" strike="noStrike">
                <a:solidFill>
                  <a:srgbClr val="ffffff"/>
                </a:solidFill>
                <a:latin typeface="Tahoma"/>
                <a:ea typeface="Arial"/>
              </a:rPr>
              <a:t>ñ</a:t>
            </a:r>
            <a:r>
              <a:rPr b="0" lang="en-US" sz="3200" spc="-1" strike="noStrike">
                <a:solidFill>
                  <a:srgbClr val="ffffff"/>
                </a:solidFill>
                <a:latin typeface="Tahoma"/>
              </a:rPr>
              <a:t>ola</a:t>
            </a:r>
            <a:endParaRPr b="0" lang="en-US" sz="3200" spc="-1" strike="noStrike">
              <a:solidFill>
                <a:srgbClr val="ffffff"/>
              </a:solidFill>
              <a:latin typeface="Tahoma"/>
            </a:endParaRPr>
          </a:p>
        </p:txBody>
      </p:sp>
      <p:pic>
        <p:nvPicPr>
          <p:cNvPr id="393" name="" descr=""/>
          <p:cNvPicPr/>
          <p:nvPr/>
        </p:nvPicPr>
        <p:blipFill>
          <a:blip r:embed="rId1"/>
          <a:stretch/>
        </p:blipFill>
        <p:spPr>
          <a:xfrm>
            <a:off x="2895480" y="1523880"/>
            <a:ext cx="292104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 Vida de Cervantes</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ci</a:t>
            </a:r>
            <a:r>
              <a:rPr b="0" lang="en-US" sz="2800" spc="-1" strike="noStrike">
                <a:solidFill>
                  <a:srgbClr val="ffffff"/>
                </a:solidFill>
                <a:latin typeface="Tahoma"/>
                <a:ea typeface="Arial"/>
              </a:rPr>
              <a:t>ó</a:t>
            </a:r>
            <a:r>
              <a:rPr b="0" lang="en-US" sz="2800" spc="-1" strike="noStrike">
                <a:solidFill>
                  <a:srgbClr val="ffffff"/>
                </a:solidFill>
                <a:latin typeface="Tahoma"/>
              </a:rPr>
              <a:t> en Alcala de Henáres, Espa</a:t>
            </a:r>
            <a:r>
              <a:rPr b="0" lang="en-US" sz="2800" spc="-1" strike="noStrike">
                <a:solidFill>
                  <a:srgbClr val="ffffff"/>
                </a:solidFill>
                <a:latin typeface="Tahoma"/>
                <a:ea typeface="Arial"/>
              </a:rPr>
              <a:t>ñ</a:t>
            </a:r>
            <a:r>
              <a:rPr b="0" lang="en-US" sz="2800" spc="-1" strike="noStrike">
                <a:solidFill>
                  <a:srgbClr val="ffffff"/>
                </a:solidFill>
                <a:latin typeface="Tahoma"/>
              </a:rPr>
              <a:t>a en 1547</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 padres no fueron ricos pero le pagaron la educación en Madri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Madrid, escribio versos para el funeral de una princesa Española en 156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bién escribio muchos sonetos y romanc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ando tenía viente y dos años, mudo a Italia y sirvio como un patrocinador y protector de Cardinal Acquavi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Militar y Esclavitud </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alisto en la militar contra los Turks y Africanos por España y Itali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ibio una herida y no pudo usar su mano o su brazo derecho.  Trato regresar a Espana a 1572</a:t>
            </a:r>
            <a:endParaRPr b="0" lang="en-US" sz="2800" spc="-1" strike="noStrike">
              <a:solidFill>
                <a:srgbClr val="ffffff"/>
              </a:solidFill>
              <a:latin typeface="Tahoma"/>
            </a:endParaRPr>
          </a:p>
        </p:txBody>
      </p:sp>
      <p:pic>
        <p:nvPicPr>
          <p:cNvPr id="398" name="" descr=""/>
          <p:cNvPicPr/>
          <p:nvPr/>
        </p:nvPicPr>
        <p:blipFill>
          <a:blip r:embed="rId1"/>
          <a:stretch/>
        </p:blipFill>
        <p:spPr>
          <a:xfrm>
            <a:off x="4651200" y="1599840"/>
            <a:ext cx="4191120" cy="2171880"/>
          </a:xfrm>
          <a:prstGeom prst="rect">
            <a:avLst/>
          </a:prstGeom>
          <a:ln w="0">
            <a:noFill/>
          </a:ln>
        </p:spPr>
      </p:pic>
      <p:pic>
        <p:nvPicPr>
          <p:cNvPr id="399" name="" descr=""/>
          <p:cNvPicPr/>
          <p:nvPr/>
        </p:nvPicPr>
        <p:blipFill>
          <a:blip r:embed="rId2"/>
          <a:stretch/>
        </p:blipFill>
        <p:spPr>
          <a:xfrm>
            <a:off x="4952880" y="1447920"/>
            <a:ext cx="3343320" cy="2297160"/>
          </a:xfrm>
          <a:prstGeom prst="rect">
            <a:avLst/>
          </a:prstGeom>
          <a:ln w="0">
            <a:noFill/>
          </a:ln>
        </p:spPr>
      </p:pic>
      <p:sp>
        <p:nvSpPr>
          <p:cNvPr id="400" name=""/>
          <p:cNvSpPr txBox="1"/>
          <p:nvPr/>
        </p:nvSpPr>
        <p:spPr>
          <a:xfrm>
            <a:off x="4648320" y="3809880"/>
            <a:ext cx="4038480" cy="28195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barco fue capturado y Cervantes estuvo en la cárcel por ocho anos. Durante este tiempo escribio sobre sus experiencias en la novela </a:t>
            </a:r>
            <a:r>
              <a:rPr b="1" lang="en-US" sz="2400" spc="-1" strike="noStrike">
                <a:solidFill>
                  <a:srgbClr val="ffffff"/>
                </a:solidFill>
                <a:latin typeface="Tahoma"/>
              </a:rPr>
              <a:t>El Captiv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1" name=""/>
          <p:cNvSpPr/>
          <p:nvPr/>
        </p:nvSpPr>
        <p:spPr>
          <a:xfrm>
            <a:off x="4038480" y="4389480"/>
            <a:ext cx="533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4572000" y="388620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mpo de literatura </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ando los captores recibieron dinero para Cervantes, el regreso a Espana en 1581</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agro su vida para literatura, tenía más edad, sabiduría y experienci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cribio un romance titulado Galatea, muchas dramas, y novelas exemplares pero no tuvo mucho éxito.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 éxito y su muerte</a:t>
            </a:r>
            <a:endParaRPr b="0" lang="en-US" sz="4400" spc="-1" strike="noStrike">
              <a:solidFill>
                <a:srgbClr val="ffffcc"/>
              </a:solidFill>
              <a:latin typeface="Tahoma"/>
            </a:endParaRPr>
          </a:p>
        </p:txBody>
      </p:sp>
      <p:sp>
        <p:nvSpPr>
          <p:cNvPr id="406"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vantes publicó Don Quijote en Madrid en 1606 y recibio mucho aclamación pero todavía era muy pobr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 éxito le atrayó muchos enemigos cuales escribieron una continuación de Don Quijote contra de Cervantes pero al mismo tiempo Cervantes encontro el favor y apollo de el Conde de Lemos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ó la continuación y terminación de Don Quijote, Viage al Parnaso (1614) y finalmente el romance de Persiles y Sigismunda y lo dedico a Conde de Lemo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 Muerte </a:t>
            </a: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vantes se murio muy pobre en Madrid, en el año 1616, cuando tenía sesenta y nueve año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vo un funeral privado, sin distinción y un lápida</a:t>
            </a:r>
            <a:endParaRPr b="0" lang="en-US" sz="2800" spc="-1" strike="noStrike">
              <a:solidFill>
                <a:srgbClr val="ffffff"/>
              </a:solidFill>
              <a:latin typeface="Tahoma"/>
            </a:endParaRPr>
          </a:p>
        </p:txBody>
      </p:sp>
      <p:pic>
        <p:nvPicPr>
          <p:cNvPr id="409" name="" descr=""/>
          <p:cNvPicPr/>
          <p:nvPr/>
        </p:nvPicPr>
        <p:blipFill>
          <a:blip r:embed="rId1"/>
          <a:stretch/>
        </p:blipFill>
        <p:spPr>
          <a:xfrm>
            <a:off x="4809960" y="1600200"/>
            <a:ext cx="3873600" cy="449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bra Maestra: Don Quijote</a:t>
            </a:r>
            <a:endParaRPr b="0" lang="en-US" sz="4400" spc="-1" strike="noStrike">
              <a:solidFill>
                <a:srgbClr val="ffffcc"/>
              </a:solidFill>
              <a:latin typeface="Tahoma"/>
            </a:endParaRPr>
          </a:p>
        </p:txBody>
      </p:sp>
      <p:sp>
        <p:nvSpPr>
          <p:cNvPr id="411" name="PlaceHolder 2"/>
          <p:cNvSpPr>
            <a:spLocks noGrp="1"/>
          </p:cNvSpPr>
          <p:nvPr>
            <p:ph/>
          </p:nvPr>
        </p:nvSpPr>
        <p:spPr>
          <a:xfrm>
            <a:off x="301320" y="1599840"/>
            <a:ext cx="57942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os Parte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imer volumen (1604)</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gundo volumen (1614)</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historia se mezcla con la realidad, habla de si mismo.</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tagonista: Don Quijote de la Mancha.  Lo acompañan Sancho Panza y dos caballo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ustra varias tema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Honor</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erencias entre clases social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verdad y la realidad</a:t>
            </a: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12" name="" descr=""/>
          <p:cNvPicPr/>
          <p:nvPr/>
        </p:nvPicPr>
        <p:blipFill>
          <a:blip r:embed="rId1"/>
          <a:stretch/>
        </p:blipFill>
        <p:spPr>
          <a:xfrm>
            <a:off x="6172200" y="1752480"/>
            <a:ext cx="269244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ios Web</a:t>
            </a: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3c145"/>
                </a:solidFill>
                <a:uFillTx/>
                <a:latin typeface="Tahoma"/>
                <a:hlinkClick r:id="rId1"/>
              </a:rPr>
              <a:t>http://www.donquixote.com/retrato.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3c145"/>
                </a:solidFill>
                <a:uFillTx/>
                <a:latin typeface="Tahoma"/>
                <a:hlinkClick r:id="rId2"/>
              </a:rPr>
              <a:t>http://quixote.mse.jhu.edu/index-es.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cervantesvirtual.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3:21:30Z</dcterms:created>
  <dc:creator>Marisa C. Zepeda</dc:creator>
  <dc:description/>
  <dc:language>en-US</dc:language>
  <cp:lastModifiedBy>raquelee</cp:lastModifiedBy>
  <dcterms:modified xsi:type="dcterms:W3CDTF">2003-12-15T22:59:19Z</dcterms:modified>
  <cp:revision>6</cp:revision>
  <dc:subject/>
  <dc:title>Slide 1</dc:title>
</cp:coreProperties>
</file>